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F4F-BEEC-4F95-9201-259ED6AF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AA6-F1FB-4697-9E16-4ED05CBC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317-9F05-4FCB-9ADF-4C283EF2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10A-0E81-477C-8028-7792A791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D03-6EA9-4202-988C-6C7B7322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2F5-41FD-46F1-8138-B6AF87E9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CE4-24DD-4F0B-9963-0A068608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6D5-05A6-467B-BBDA-AA345B93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0ED-A313-4B05-B242-40BC8C4C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125-E17F-474E-AF41-9B06B42E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385-96A0-4E28-B07C-5B8D757A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EFA-A289-45AF-A2D6-188EB0EA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8955-EB91-4FF4-9045-B20FB084F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 Torrentó 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AL-Or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1675" r="0" b="0"/>
          <a:stretch/>
        </p:blipFill>
        <p:spPr>
          <a:xfrm>
            <a:off x="1290600" y="189000"/>
            <a:ext cx="6562800" cy="65926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3273120" y="2276640"/>
            <a:ext cx="1837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ZoneTexte 3"/>
          <p:cNvGrpSpPr/>
          <p:nvPr/>
        </p:nvGrpSpPr>
        <p:grpSpPr>
          <a:xfrm>
            <a:off x="2451240" y="920880"/>
            <a:ext cx="1035000" cy="500040"/>
            <a:chOff x="2451240" y="920880"/>
            <a:chExt cx="1035000" cy="500040"/>
          </a:xfrm>
        </p:grpSpPr>
        <p:pic>
          <p:nvPicPr>
            <p:cNvPr id="93" name="ZoneTexte 3" descr=""/>
            <p:cNvPicPr/>
            <p:nvPr/>
          </p:nvPicPr>
          <p:blipFill>
            <a:blip r:embed="rId2"/>
            <a:stretch/>
          </p:blipFill>
          <p:spPr>
            <a:xfrm>
              <a:off x="2451240" y="920880"/>
              <a:ext cx="1035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602080" y="981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6248520" y="2895480"/>
            <a:ext cx="2600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s follow the 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ma evolution in the protected freq. Zone [1400-1420]MHz after 500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5"/>
          <p:cNvCxnSpPr/>
          <p:nvPr/>
        </p:nvCxnSpPr>
        <p:spPr>
          <a:xfrm>
            <a:off x="3419280" y="4941360"/>
            <a:ext cx="108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9" name="ZoneTexte 6"/>
          <p:cNvSpPr/>
          <p:nvPr/>
        </p:nvSpPr>
        <p:spPr>
          <a:xfrm>
            <a:off x="2141640" y="4500720"/>
            <a:ext cx="327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10 sets of 50 cycl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CK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41120"/>
            <a:ext cx="660096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ta acqui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 polaris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focal plane of the  Radiotelescope at Nançay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quipped with the BAO-Radio electron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250-1500]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in July 2010: UGC4358 &amp; 3C227/3C2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ation time: &gt;60h Q1&amp;2 of 2011 on Abell1205, Abell2240, Abell85. System tests: Jan-Mar 2011. Fully operational since April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Transfer on Irods @ CCIN2P3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5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automatic analysis ongoing: band cleaning, spectra ON-O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al: suppression of RFI, sensitivity, HI signal of Abell85 and if possible the other clus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2680" y="2060640"/>
            <a:ext cx="8410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ime-frequenc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4495680" y="24382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quisition rate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andwidth [1250-1500]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ning ~30kHz (FFT on the f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4366800" y="5950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LIMINARY RESULTS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4"/>
          <p:cNvSpPr/>
          <p:nvPr/>
        </p:nvSpPr>
        <p:spPr>
          <a:xfrm>
            <a:off x="4889520" y="83664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1081080" y="655560"/>
                <a:ext cx="3019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q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i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61" name="Connecteur droit avec flèche 11"/>
          <p:cNvCxnSpPr/>
          <p:nvPr/>
        </p:nvCxnSpPr>
        <p:spPr>
          <a:xfrm flipH="1" flipV="1">
            <a:off x="421092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2" name="ZoneTexte 12"/>
          <p:cNvSpPr/>
          <p:nvPr/>
        </p:nvSpPr>
        <p:spPr>
          <a:xfrm>
            <a:off x="4915800" y="1484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13"/>
          <p:cNvSpPr/>
          <p:nvPr/>
        </p:nvSpPr>
        <p:spPr>
          <a:xfrm>
            <a:off x="1619280" y="1125360"/>
            <a:ext cx="266544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2330280"/>
            <a:ext cx="8177040" cy="397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5254920" y="5508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data as previous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93680" y="655560"/>
                <a:ext cx="4794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aq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in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2" name="Connecteur droit avec flèche 10"/>
          <p:cNvCxnSpPr/>
          <p:nvPr/>
        </p:nvCxnSpPr>
        <p:spPr>
          <a:xfrm flipH="1" flipV="1">
            <a:off x="514764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3" name="Ellipse 11"/>
          <p:cNvSpPr/>
          <p:nvPr/>
        </p:nvSpPr>
        <p:spPr>
          <a:xfrm>
            <a:off x="755640" y="1125360"/>
            <a:ext cx="432108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4"/>
          <p:cNvSpPr/>
          <p:nvPr/>
        </p:nvSpPr>
        <p:spPr>
          <a:xfrm>
            <a:off x="5724360" y="1268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dian for an exponential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ZoneTexte 17"/>
          <p:cNvGrpSpPr/>
          <p:nvPr/>
        </p:nvGrpSpPr>
        <p:grpSpPr>
          <a:xfrm>
            <a:off x="6913440" y="6248520"/>
            <a:ext cx="1870200" cy="506160"/>
            <a:chOff x="6913440" y="6248520"/>
            <a:chExt cx="1870200" cy="506160"/>
          </a:xfrm>
        </p:grpSpPr>
        <p:pic>
          <p:nvPicPr>
            <p:cNvPr id="76" name="ZoneTexte 17" descr=""/>
            <p:cNvPicPr/>
            <p:nvPr/>
          </p:nvPicPr>
          <p:blipFill>
            <a:blip r:embed="rId2"/>
            <a:stretch/>
          </p:blipFill>
          <p:spPr>
            <a:xfrm>
              <a:off x="6913440" y="6248520"/>
              <a:ext cx="187020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95600" y="6308640"/>
              <a:ext cx="15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Mind the 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427640" y="1857240"/>
            <a:ext cx="4537080" cy="4359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ison of the 2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284720" cy="43066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70856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165000" y="170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8"/>
          <p:cNvSpPr/>
          <p:nvPr/>
        </p:nvSpPr>
        <p:spPr>
          <a:xfrm>
            <a:off x="3858840" y="162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dDev[r_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599160" y="299736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0"/>
          <p:cNvSpPr/>
          <p:nvPr/>
        </p:nvSpPr>
        <p:spPr>
          <a:xfrm>
            <a:off x="2935080" y="63817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eaning seems to 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120000" cy="6076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79280" y="2492280"/>
            <a:ext cx="24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ver the 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et of 25600 paq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4"/>
          <p:cNvSpPr/>
          <p:nvPr/>
        </p:nvSpPr>
        <p:spPr>
          <a:xfrm>
            <a:off x="190440" y="6922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x30sec x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00sec on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rcRect l="4261" t="47538" r="0" b="0"/>
          <a:stretch/>
        </p:blipFill>
        <p:spPr>
          <a:xfrm>
            <a:off x="468360" y="5877000"/>
            <a:ext cx="52927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17T19:55:27Z</dcterms:modified>
  <cp:revision>82</cp:revision>
  <dc:subject/>
  <dc:title>Diapositive 1</dc:title>
</cp:coreProperties>
</file>